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gif" ContentType="image/gif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DCB6D-781E-4AE6-A612-572A6B4D2C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3D31D-3D82-49EE-BB05-7F73CAA6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63B851-4543-4E7F-A62C-8F5D736D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C6201F-6D62-41C7-BA63-621FFEEF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38D19D-81EF-49DB-9364-C00104BA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7E3321-6684-443A-99BE-BACFE630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BAF50E-32B2-4BF4-805D-E549E03E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C28A52-976E-483C-B10F-996000C5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3D5E59-0C23-409A-9543-AED5E696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257A5F-533D-4507-B81A-710D693B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C593B9-C24D-4F54-97CF-50A6398C72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2315B-E4CD-4AAA-A23F-DDFE1511B2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C565D-C52E-4C9F-A415-B4FCEA7E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7F67A-434B-47F6-ADB4-B18359A1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84D5F-3766-424A-B11B-B68FB14E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C3248-5E16-4236-AE30-6B8C26EA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FD64D-2732-4EBE-97A4-F73E6765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94CA3-945E-4DA6-B134-6C648949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2C4E1-A8E6-411A-8B85-514D0AB6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90F4C-C361-4D2A-9347-C62BD9DF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2E270-5D71-46FB-9DB0-BE00843C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956E2-0074-46B4-B283-619896F0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DC8FE-62A7-4AAA-B596-C48D7ADC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501B4-AF27-4E41-822B-5999344638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E4A77-16C4-4050-9ABA-0EFA5E97DF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D5E7ED-3EFF-4F0F-91A1-AB2190DA5B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4E1A95-457C-455A-B38F-FFCDD4FB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13F64B-9C07-45CD-9151-DE5AC1A7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68ED6E-6C8A-4AA4-B6F3-077EAAE8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680CFD-5C72-4668-ABC6-40911900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2EA056-658D-49CB-A5CF-9BBB5716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165CC8-4B40-45E1-811F-321D663F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889698-A642-4C77-A9F1-D94899B7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ACFDEE-9DC0-40ED-9D65-257033AA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76393-FD7C-4720-B77C-290E6198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8C2F94-89CE-405F-9D2E-2409C4EE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97DD3E-9B4F-4672-9F29-75F8C87E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61BB74-32B4-4DAF-BAD1-D061143AA9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D0FF7-2EA0-4988-A448-BE9BFDFF69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F096C-C15B-4C07-8659-4DDF2D84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C893E-578F-473F-94FB-F18B327C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F9C21-7D4F-4DED-9221-30EF3E13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1A5AD-4450-4E81-8AEB-E908C2A8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9409B-5C88-486F-B2A1-5A34174F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298FE-82B5-4F76-9229-CB80E277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F5A70-C7D5-4D37-8933-0782C7FC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F7B5E-CFE9-45A7-8DDB-A7B169A0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A425D-56C5-4B51-9224-6DEF551E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ECFBC-C1A4-40A1-9AAA-55628CBD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47E80-9026-4D9F-9532-1C7F4EEB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3CDF8-376C-4FC9-B166-72D1EA6DF6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09814-94C6-4B9B-A070-5587327F95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65B24-CC5F-480F-BD28-6EE6FE35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BEFF6-5923-49A2-8D9F-366AC900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BA01C-BA96-461A-9440-DB377107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67D31-80AB-4AEA-BF8D-521D65D8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EFC72-B4FC-4C35-A193-635195C3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310E8-EF0B-4BAF-972B-D9E708FC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A11E3-E916-4D4B-A9E5-51F0E0B5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574BC-A4A9-451F-992C-0481BBA5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155DF-C421-48F1-A971-FB7505EA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0E036-F922-4403-87B2-F5700665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5AFF8-4CDE-40A1-85F4-EC458542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267E8-0D51-409A-8F36-044784153C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5204E-633B-49ED-8F02-002E1BD1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94E4E-FA3D-4FFB-B447-57B044E1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34126-4851-4582-8B68-7104FA40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8A88F-ABFE-46EE-96F7-BEBF4A3A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A6963-9209-4FA4-840F-D80BE083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F5790-05E4-4AE4-B4AE-42694FD0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BC275-C472-49FB-9469-081B9FE3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139E0-5705-477E-B270-8B1624A5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310AA-5681-4511-94CD-04A63492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A74FE-7620-400E-91DE-BE47CC47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C03D3-2515-467A-9664-6F48C9F1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CB70C-1496-46E7-BF57-2A0D374A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BE146-F14E-4564-BF55-181BEB42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9241A-2493-4388-8091-8B0FE9EF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FAA45-100C-4172-A3B8-1047D7DE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A581D-0AF0-42F4-A04B-5645BE0A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088B0-E69A-4AEF-BC7A-FA3F145A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911F7-13AA-4A58-8CBE-C172944A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9E205-1BC7-47A2-B218-3E349507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4DA60-B93D-4C9B-B1D9-3F811DC3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1DB9E-541F-4D62-AADB-317A754A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41809-4F3E-488F-869E-11A240B7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AFB5C-448E-4275-91FA-6334E63A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F199F-EF3A-484E-A3F7-898D4E04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C38DA-75C6-4386-B2E7-98D08017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9F988-FC21-48A8-A3BF-0E5788E2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C4B5D-F412-4A56-A4C2-B0578F9D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D781F-82DB-4F84-A159-3D32739D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9B33D-2179-4F3E-A165-BA7AAD88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0DE28-E690-4F5C-BF40-6ADE71FD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2AE7F-967B-4A4C-BD8C-22C6349F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8CAB1-38E6-4D35-9B59-A0AC6AE1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B3AB6-2565-492C-85F4-5F0809BE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25BE0-59CC-4BAB-B6F9-27D5335D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5EB63-BDE5-45FE-B68C-7E133DA1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1A363-15B9-499C-AA28-0DA2015C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4F5B9-997C-4AD6-865E-77F15E1A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760BF-7A61-434B-9E95-03C6B582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8CE47-BD6A-4B1F-967E-3D5D4AB2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C6C24-450B-497A-9D42-ABEE8F70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E8B7C-E4AA-4166-8C7E-13F6B982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8548F-2CF5-43EA-93A6-FEADB9BF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EA8A3-5F4E-471B-9850-9F998ACA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01736-C3FC-44CD-82C4-709C7C36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6C64F-4A4F-49E2-8F46-07F41755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04C59-6B10-4BD8-8A9A-BEF7495A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C24A1-5B86-4CB5-BA48-0F68AF4A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84F8E-896E-45BC-99CF-8DC9E7FE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83407-2371-4CCE-830B-5D692AC4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77513-39A5-48ED-AF6D-408A237B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60558-3CED-4DB0-BA1E-997BB988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A36AF-00FF-473A-B996-628DE1B4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3EEFA-31AC-432C-A036-79BE9C08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6AF6A-FFB7-4309-A872-20DAD62B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5CA47-6B6B-4C2C-A61A-AF34261C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F0E35-6163-4EC5-8335-C09CDE0B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5A0ADB-4E5A-455A-85E4-0ACD8B45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C757B-D3D9-48E1-8A37-D7FDC399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D8C5C-0A4B-4E13-BBD3-8145D636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72827-7219-4003-A9D2-E067925C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548876-85A8-4A0B-B4A3-4F369BB1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44803D-3A1D-461A-AB8A-888FEA32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7044EF-5994-408D-B06A-0085A6B9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D904BD-2E8F-4F97-90D2-6FA40E1B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041CE2-ABBB-4937-9BA9-7233F24D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41E61C-C84F-4AA0-96CC-8CB7FB26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048E31-7FC9-41C1-81A3-426492F2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EF2FDC-12EC-4BB3-8EAE-B0B067A4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CB5CBC-E26D-4454-9C51-7A67A3B1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36E93A-495B-415C-ADFC-8BE09C8D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0707C-253D-4B3A-A559-33B81006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A5A6C8-514C-48F2-8742-FFF64E34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69E04E-631B-4FE9-9030-5F13D6FE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E0D2C-DD76-4FC2-A4E6-B825C4B6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1FEC1A-DBCB-4506-88BB-AD3A743F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EC14FF-114E-49E8-84B1-EC58FE80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2F5F85-E811-44E9-8A34-80F27980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4750BA-6682-4DBB-82CD-2713DB0D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AB5AD6-5769-474D-AA46-E17FAF6E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D35E15-E0D0-46C5-89ED-9EC0EDDB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39A8C1-600C-41C7-AD30-4F12C9D2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EC7C8-3E84-4E5A-A7C7-498C6B92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AF7403-BDFE-4149-AFDE-3AC90F70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2E3F4B-FAED-49DE-99EF-01D6FDCF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FED41-1376-4B6C-84CD-23DCD9DE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5FF93-122D-4D56-AD2E-3E033B96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D4A961-6B83-4ADB-9DE2-155FC282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CE776C-93B9-488F-AD91-1B4A7981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32A59E-AB77-4536-8EAE-382D91C2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CAEB5F-AF56-455A-B564-7EBAB55B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06AA37-7EEE-4F08-BAB6-F6F1CA27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4C4D91-5E38-49BB-A77F-F0E6D3E6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BEDFF-5374-4424-84F3-A8015492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B7919-5418-4996-87F8-CB56DFEF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C25C6E-2A48-4D51-9A55-A385F862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33BA39-1721-49B2-A0F7-95476EED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5C715D-D268-46A8-96DC-AC695901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55546F-11D0-4B58-ABE8-C2E59F0C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4F3915-2EA7-45F4-879F-0CF6E0C2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B7D2CB-F0DD-42F4-AA1C-132B3263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04D046-5ABA-48D2-B44B-C5E6336C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356E2E-6AF4-4358-B175-F5FE6539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DC49B7-5E5D-4079-961B-6AE54CD9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509D85-2A87-48D9-8EC9-691424CDB5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1ADA41-3E5F-4BCE-B981-981491BC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9AFF7B-B387-440A-854C-483F1CD4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621EEE-6875-4EB8-BDC3-D75C7F12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16E983-859B-41CC-B819-3BACA04D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A06C14-5963-4787-9FBE-2A7F744A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82A6EB-DB6B-46A5-B714-51D350DD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756D99-12F2-49DA-8D32-CAF1C154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94235C-0416-41AF-BB0E-7BF21D5B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D4301D-FD3E-4955-9703-A2E09DE3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D0C439-FBDC-49A2-802C-A5C611E0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4C5204-F952-4F3F-A9F9-4F3BB3DF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72222A-10E4-49A0-AA51-C5E09CC3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F66F48-1639-4C0A-9B36-9ADA1ABE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C8CAE2-5E1F-4C81-843D-01C2541D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64C9F4-8831-4479-B3F0-B9BF1844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3428A8-B535-4E51-8A68-222B3448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4C15A5-3044-40C2-B586-D47C6770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D95EC9-43BC-4803-A0C6-E4AA36EF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67F1E0-B3E5-43AA-A848-0115EDB2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34F27C-54E8-4EA6-90CA-9E020033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C5697A-A1E9-47D1-9A4D-E2B7843C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861943-F74F-4440-9E41-282CDCEA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8190C7-DF50-49A0-B987-718EF2DF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10D2F1-3A4A-4AFE-AF4B-B76CC747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4DDA46-E2DB-48ED-8749-BB4F0953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D3A1A5-0995-4B45-85D1-90B03D32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DC3325-176F-4071-AA13-EE8DDFA3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D99B9C-DD03-4DD3-818B-892A81D5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BCE37E-310F-4592-BD35-D613809C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8AA587-04FD-4D69-B628-2DEDD214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724ABC-82F8-4D36-93FE-1DD0EBDC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C4A59C-7F54-415F-A87C-B1CA4A5E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5125EB-B402-4C47-9185-E42DCA3B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D73AF8-8560-47B6-A1E0-3C0391DD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F4E513-E38E-4B2E-9FA6-01C065E8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5FC32A-DB88-4CEA-AE4B-8BA37DB8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154675-BE1B-4436-AFAD-C8F0B444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72AC9A-4B70-4B4A-B21C-9EE9A29E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809B6F-7C79-46E1-9164-29F024E5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1893E8-8771-4EA5-9DA7-D888D8BF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3BE553-FB28-4B44-BD5A-3E21E7E8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DA4343-E128-402E-BD83-CFE7D954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75A0B0-DFFF-44D6-99F6-3A8D20CD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131C-A68C-484A-824E-885D3E5C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62F2C0-3E3C-4898-B5F4-B70AFC52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B440A6-665E-4BC7-962E-1E8B016F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9F5A4-394A-4C65-94AF-0A2B9A7D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528883-06C6-4316-97C6-B6C163A5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B0B05A-AB28-4FAF-B134-4D0904F6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FCBE78-BC3C-4D6E-AFFE-B40DE41C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CBED81-8419-4B51-BA41-842076C06D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DD9EA-CE68-45C2-9743-C075A5E7A8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D7A9D-9952-4841-99A6-B4AEF66F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1FEE8-05BB-4CE9-B2F3-46110F2E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2DC1-79BF-4136-A227-E3FE7086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08991-4F88-4F07-A712-DCC9430A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25685-7F28-4052-8A32-884027AF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DCF96-251A-41C9-8C9F-38DAFA11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825DF-4FF7-4564-AB20-00220F7C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2D527-3F54-475C-8485-C8579C23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E356E-B24A-43CB-90CB-440F8DE8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F0EC4-7AC0-46D4-B6B1-D07E64CD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E21AC-703B-491A-933A-28FF30E8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53BC8-8058-4C50-8FC8-646AF4F5FF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D74FE7-5F80-4EAB-87E6-34FBE04B74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154A-697F-4F43-8D0C-933A241B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534DA-09E9-41A4-9FA9-270D0B4D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B4980B-FDC6-46BB-9A3A-6F6515A8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395D2-E0B8-4159-B978-C95B420E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004DC6-D1BF-4A2E-85BF-60B10C17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60E65-2293-4FF3-BDE3-E5BABD4C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430802-3839-4C4C-A5D7-201A1B70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C94B55-C84D-46E4-A1AF-99E0CDBB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99DD5F-90B2-45CE-BAC7-C6633E49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10768-8E98-42DF-8C52-E3BB147D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B965F-ECBB-45E5-8A4B-A54A940E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80A8-A7AF-45B9-83D3-4BCFB34F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748946-57EB-421D-AC15-9F556F09E2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382820-399B-49CB-BDB5-B89D020F01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494A24-84BC-4340-B1DB-75750AAE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E73CB3-B85A-40B0-BBD2-EA34BFBD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63ADB8-70F8-4173-9A80-897F9220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CB4282-B041-4884-A94F-4DCCF44C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3DC126-717C-4E50-B036-6DAB170B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75B561-ADD7-4371-8A00-9ADC3C2E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FE7F48-DDE2-4035-A60D-53A0B8F4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1B0C75-46A5-4430-942A-6553A8A4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BE24E-6EF3-43ED-A717-91D96185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7B99E8-26ED-46D9-903B-0E56616E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06DDCE-A3ED-4B28-A60A-45BBF958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728684-0FA1-4DE7-BFB2-AA677C14C8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B4F44-4A25-4C9F-B914-7A46490CE7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89D90-468E-4810-B9BD-13AF27C6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3BCE8-D8C0-4D04-A6B7-03868D34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983A2-BCF9-4D5B-AF3F-97119D7C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87BDA-18AB-4728-B1EE-AEE194A5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73179-3C4E-496C-96FA-7BAB7926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85CEA-53CE-450D-B2BC-34E71784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86A4-E6A9-4DE6-98F7-1E0F2BBD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D267C-5F06-4386-A07F-47E626B3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3816B-95D3-4D05-BE3D-4B6F5F79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4ECCE-FAE7-44DD-9566-EE5C32E9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092B1-FCDD-4025-B831-B8CDFD9D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EBE64-E35D-4F5E-92E0-AD2505AC03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39D0A-6E56-4ADD-82C2-71CAEF5F5B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4AC01A-5A8D-4EFB-BB09-56718BB9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AE3A0-6B03-4C64-84F6-5E0870F9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052BC5-4F25-470C-B38D-B713502A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EBE809-FD71-4230-86AE-1B61C716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B0009-E711-4DCB-84F0-1BB3F73B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01090B-0D7D-4421-899D-D169D4B8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5E165-9503-42F0-998A-E6667875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7907DA-83A0-472B-AF96-512F5B35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E3D212-8979-43B0-919A-BE4D1A23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0DC276-0D76-4AC1-B23C-224B5B6C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DE82D-222C-43C5-B221-9E88E376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D95D9E-4D5E-4567-B7EB-549D898061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99A005-B20C-410E-98E6-BB231F1874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EAC65B-5830-47BE-A41F-38B4E80B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930E30-6E5E-4D0A-B5CE-E7DBAA68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AA53-B572-41CF-8CAD-6B70B5160BB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ADE0-2A5B-4840-9FDB-9401B009363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5D1F-313F-4593-8D93-60E457A1583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A26C-90CE-4AED-9FE9-FFB2DC004F2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AF2A-6BA5-4055-B057-5C449EA61AC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DAB6-986E-4100-9B7B-86C7C1FE22F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070D-AF2F-4611-ADEF-D0EEA7F8339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3529-AB7F-4446-815B-C56DBDED9C9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5677-233F-4D06-A804-429F1E05FC1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1B17-A430-4D9A-9528-8878DE85DDF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10B8-C1C1-4646-9386-47D592B17A4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CBB3-0E86-43B2-9BB8-DF7548E3928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B5A9-0A1F-4104-9465-661BE1A098D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9DF9-FA3A-41EA-BD69-5A620A94CEA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10DD-1514-4520-BA5B-6A949579788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FFE4-057B-440D-9716-F4DE02294E3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01A3-EDDE-41FC-AFDF-4B98F1DEA32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3AC3-A47D-48B6-8117-FFCBB82A666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4757-1716-4246-B7B1-E3CD10C04EC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4DAC-CFCE-4C10-9045-355D180F9B5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57CD-D3DE-4320-B4DA-1AE80033C1D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9E82-3CB2-4B02-B5ED-067DC300C3B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91B7-224A-4962-9855-82E07DC4ACB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6151-E91C-4E9B-A16D-0E042027901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963880" y="2841480"/>
            <a:ext cx="5587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422280" y="276876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解 决 问 题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999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01" name="椭圆 4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5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3"/>
          <p:cNvSpPr/>
          <p:nvPr/>
        </p:nvSpPr>
        <p:spPr>
          <a:xfrm>
            <a:off x="1013760" y="619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一、铺垫助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3" descr="D:\我的文档-桌面-收藏夹\桌面\QQ图片20150228131442.png"/>
          <p:cNvPicPr/>
          <p:nvPr/>
        </p:nvPicPr>
        <p:blipFill>
          <a:blip r:embed="rId8"/>
          <a:stretch/>
        </p:blipFill>
        <p:spPr>
          <a:xfrm>
            <a:off x="665280" y="1135080"/>
            <a:ext cx="6761160" cy="42289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4" descr="D:\我的文档-桌面-收藏夹\桌面\REJA.tif"/>
          <p:cNvPicPr/>
          <p:nvPr/>
        </p:nvPicPr>
        <p:blipFill>
          <a:blip r:embed="rId9"/>
          <a:stretch/>
        </p:blipFill>
        <p:spPr>
          <a:xfrm>
            <a:off x="1212840" y="3627360"/>
            <a:ext cx="6961320" cy="806400"/>
          </a:xfrm>
          <a:prstGeom prst="rect">
            <a:avLst/>
          </a:prstGeom>
          <a:ln w="0">
            <a:noFill/>
          </a:ln>
        </p:spPr>
      </p:pic>
      <p:sp>
        <p:nvSpPr>
          <p:cNvPr id="1012" name="矩形 7"/>
          <p:cNvSpPr/>
          <p:nvPr/>
        </p:nvSpPr>
        <p:spPr>
          <a:xfrm>
            <a:off x="2212920" y="172080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8"/>
          <p:cNvSpPr/>
          <p:nvPr/>
        </p:nvSpPr>
        <p:spPr>
          <a:xfrm>
            <a:off x="4498920" y="172080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9"/>
          <p:cNvSpPr/>
          <p:nvPr/>
        </p:nvSpPr>
        <p:spPr>
          <a:xfrm>
            <a:off x="6713640" y="172080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10"/>
          <p:cNvSpPr/>
          <p:nvPr/>
        </p:nvSpPr>
        <p:spPr>
          <a:xfrm>
            <a:off x="2212920" y="22924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11"/>
          <p:cNvSpPr/>
          <p:nvPr/>
        </p:nvSpPr>
        <p:spPr>
          <a:xfrm>
            <a:off x="4498920" y="22924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12"/>
          <p:cNvSpPr/>
          <p:nvPr/>
        </p:nvSpPr>
        <p:spPr>
          <a:xfrm>
            <a:off x="6713640" y="22924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矩形 13"/>
          <p:cNvSpPr/>
          <p:nvPr/>
        </p:nvSpPr>
        <p:spPr>
          <a:xfrm>
            <a:off x="1284120" y="469908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矩形 14"/>
          <p:cNvSpPr/>
          <p:nvPr/>
        </p:nvSpPr>
        <p:spPr>
          <a:xfrm>
            <a:off x="2141640" y="455436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15"/>
          <p:cNvSpPr/>
          <p:nvPr/>
        </p:nvSpPr>
        <p:spPr>
          <a:xfrm>
            <a:off x="2927520" y="4699080"/>
            <a:ext cx="42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16"/>
          <p:cNvSpPr/>
          <p:nvPr/>
        </p:nvSpPr>
        <p:spPr>
          <a:xfrm>
            <a:off x="3998880" y="46990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矩形 17"/>
          <p:cNvSpPr/>
          <p:nvPr/>
        </p:nvSpPr>
        <p:spPr>
          <a:xfrm>
            <a:off x="4927680" y="46990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矩形 2"/>
          <p:cNvSpPr/>
          <p:nvPr/>
        </p:nvSpPr>
        <p:spPr>
          <a:xfrm>
            <a:off x="930240" y="1093680"/>
            <a:ext cx="6143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比较下面两道题，选择合适的方法解答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3"/>
          <p:cNvSpPr/>
          <p:nvPr/>
        </p:nvSpPr>
        <p:spPr>
          <a:xfrm>
            <a:off x="714240" y="1927080"/>
            <a:ext cx="6572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排桌子，每排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张，一共有多少张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4"/>
          <p:cNvSpPr/>
          <p:nvPr/>
        </p:nvSpPr>
        <p:spPr>
          <a:xfrm>
            <a:off x="714240" y="2592360"/>
            <a:ext cx="826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排桌子，一排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张，另一排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张，一共有多少张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5"/>
          <p:cNvSpPr/>
          <p:nvPr/>
        </p:nvSpPr>
        <p:spPr>
          <a:xfrm>
            <a:off x="428760" y="3427560"/>
            <a:ext cx="2428920" cy="571320"/>
          </a:xfrm>
          <a:prstGeom prst="rect">
            <a:avLst/>
          </a:prstGeom>
          <a:solidFill>
            <a:srgbClr val="e0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组合 6"/>
          <p:cNvGrpSpPr/>
          <p:nvPr/>
        </p:nvGrpSpPr>
        <p:grpSpPr>
          <a:xfrm>
            <a:off x="5162400" y="4289400"/>
            <a:ext cx="3202200" cy="1009800"/>
            <a:chOff x="5162400" y="4289400"/>
            <a:chExt cx="3202200" cy="1009800"/>
          </a:xfrm>
        </p:grpSpPr>
        <p:sp>
          <p:nvSpPr>
            <p:cNvPr id="1028" name="AutoShape 27"/>
            <p:cNvSpPr/>
            <p:nvPr/>
          </p:nvSpPr>
          <p:spPr>
            <a:xfrm>
              <a:off x="5162400" y="4289400"/>
              <a:ext cx="2000160" cy="991080"/>
            </a:xfrm>
            <a:prstGeom prst="wedgeRoundRectCallout">
              <a:avLst>
                <a:gd name="adj1" fmla="val 58083"/>
                <a:gd name="adj2" fmla="val 35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第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(1)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题知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道了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9" name="Picture 4" descr="E:\2017秋上·黄倩\其他\人\蜜蜂.gif蜜蜂"/>
            <p:cNvPicPr/>
            <p:nvPr/>
          </p:nvPicPr>
          <p:blipFill>
            <a:blip r:embed="rId1"/>
            <a:stretch/>
          </p:blipFill>
          <p:spPr>
            <a:xfrm>
              <a:off x="7513200" y="4360680"/>
              <a:ext cx="851400" cy="93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0" name="组合 9"/>
          <p:cNvGrpSpPr/>
          <p:nvPr/>
        </p:nvGrpSpPr>
        <p:grpSpPr>
          <a:xfrm>
            <a:off x="1192320" y="4361040"/>
            <a:ext cx="3398760" cy="1006200"/>
            <a:chOff x="1192320" y="4361040"/>
            <a:chExt cx="3398760" cy="1006200"/>
          </a:xfrm>
        </p:grpSpPr>
        <p:sp>
          <p:nvSpPr>
            <p:cNvPr id="1031" name="AutoShape 27"/>
            <p:cNvSpPr/>
            <p:nvPr/>
          </p:nvSpPr>
          <p:spPr>
            <a:xfrm>
              <a:off x="2031840" y="4361040"/>
              <a:ext cx="2559240" cy="928800"/>
            </a:xfrm>
            <a:prstGeom prst="wedgeRoundRectCallout">
              <a:avLst>
                <a:gd name="adj1" fmla="val -57319"/>
                <a:gd name="adj2" fmla="val 42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两题都是求一共有多少张桌子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2" name="Picture 2" descr="E:\2017秋上·黄倩\其他\人\海豚.jpg海豚"/>
            <p:cNvPicPr/>
            <p:nvPr/>
          </p:nvPicPr>
          <p:blipFill>
            <a:blip r:embed="rId2"/>
            <a:stretch/>
          </p:blipFill>
          <p:spPr>
            <a:xfrm>
              <a:off x="1192320" y="4443480"/>
              <a:ext cx="675360" cy="92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3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34" name="圆角矩形 15" descr=""/>
            <p:cNvPicPr/>
            <p:nvPr/>
          </p:nvPicPr>
          <p:blipFill>
            <a:blip r:embed="rId3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5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36" name="椭圆 8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7" name="椭圆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8" name="椭圆 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9" name="椭圆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28" descr=""/>
              <p:cNvPicPr/>
              <p:nvPr/>
            </p:nvPicPr>
            <p:blipFill>
              <a:blip r:embed="rId8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4" name="矩形 1"/>
          <p:cNvSpPr/>
          <p:nvPr/>
        </p:nvSpPr>
        <p:spPr>
          <a:xfrm>
            <a:off x="1682280" y="6984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二、顺思导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八边形 13"/>
          <p:cNvSpPr/>
          <p:nvPr/>
        </p:nvSpPr>
        <p:spPr>
          <a:xfrm>
            <a:off x="385920" y="1074600"/>
            <a:ext cx="52200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47" name="圆角矩形 48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8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49" name="椭圆 50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0" name="椭圆 51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1" name="椭圆 52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2" name="椭圆 53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54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55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56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圆角矩形 57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7" name="矩形 1"/>
          <p:cNvSpPr/>
          <p:nvPr/>
        </p:nvSpPr>
        <p:spPr>
          <a:xfrm>
            <a:off x="422280" y="88920"/>
            <a:ext cx="2428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怎样解答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组合 2"/>
          <p:cNvGrpSpPr/>
          <p:nvPr/>
        </p:nvGrpSpPr>
        <p:grpSpPr>
          <a:xfrm>
            <a:off x="338040" y="866880"/>
            <a:ext cx="3591000" cy="1062000"/>
            <a:chOff x="338040" y="866880"/>
            <a:chExt cx="3591000" cy="1062000"/>
          </a:xfrm>
        </p:grpSpPr>
        <p:sp>
          <p:nvSpPr>
            <p:cNvPr id="1059" name="AutoShape 27"/>
            <p:cNvSpPr/>
            <p:nvPr/>
          </p:nvSpPr>
          <p:spPr>
            <a:xfrm>
              <a:off x="1571760" y="866880"/>
              <a:ext cx="2357280" cy="1062000"/>
            </a:xfrm>
            <a:prstGeom prst="wedgeRoundRectCallout">
              <a:avLst>
                <a:gd name="adj1" fmla="val -62435"/>
                <a:gd name="adj2" fmla="val 251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第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(1)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题是把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加起来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Picture 4" descr="E:\2017秋上·黄倩\其他\人\海豚.jpg海豚"/>
            <p:cNvPicPr/>
            <p:nvPr/>
          </p:nvPicPr>
          <p:blipFill>
            <a:blip r:embed="rId8"/>
            <a:stretch/>
          </p:blipFill>
          <p:spPr>
            <a:xfrm>
              <a:off x="338040" y="938160"/>
              <a:ext cx="772200" cy="93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5"/>
          <p:cNvGrpSpPr/>
          <p:nvPr/>
        </p:nvGrpSpPr>
        <p:grpSpPr>
          <a:xfrm>
            <a:off x="4626000" y="866880"/>
            <a:ext cx="3603240" cy="928440"/>
            <a:chOff x="4626000" y="866880"/>
            <a:chExt cx="3603240" cy="928440"/>
          </a:xfrm>
        </p:grpSpPr>
        <p:sp>
          <p:nvSpPr>
            <p:cNvPr id="1062" name="AutoShape 27"/>
            <p:cNvSpPr/>
            <p:nvPr/>
          </p:nvSpPr>
          <p:spPr>
            <a:xfrm>
              <a:off x="4626000" y="866880"/>
              <a:ext cx="2357640" cy="928440"/>
            </a:xfrm>
            <a:prstGeom prst="wedgeRoundRectCallout">
              <a:avLst>
                <a:gd name="adj1" fmla="val 62222"/>
                <a:gd name="adj2" fmla="val 339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第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(2)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题是把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合起来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3" name="Picture 2" descr="E:\2017秋上·黄倩\其他\人\t01cd44f4a8bab65945.jpgt01cd44f4a8bab65945"/>
            <p:cNvPicPr/>
            <p:nvPr/>
          </p:nvPicPr>
          <p:blipFill>
            <a:blip r:embed="rId9"/>
            <a:stretch/>
          </p:blipFill>
          <p:spPr>
            <a:xfrm flipH="1">
              <a:off x="7453440" y="871920"/>
              <a:ext cx="775800" cy="92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4" name="矩形 8"/>
          <p:cNvSpPr/>
          <p:nvPr/>
        </p:nvSpPr>
        <p:spPr>
          <a:xfrm>
            <a:off x="1500120" y="1994040"/>
            <a:ext cx="214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×4=20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张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9"/>
          <p:cNvSpPr/>
          <p:nvPr/>
        </p:nvSpPr>
        <p:spPr>
          <a:xfrm>
            <a:off x="5119560" y="1876320"/>
            <a:ext cx="214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+4=9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张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组合 10"/>
          <p:cNvGrpSpPr/>
          <p:nvPr/>
        </p:nvGrpSpPr>
        <p:grpSpPr>
          <a:xfrm>
            <a:off x="285840" y="2471760"/>
            <a:ext cx="4340160" cy="954000"/>
            <a:chOff x="285840" y="2471760"/>
            <a:chExt cx="4340160" cy="954000"/>
          </a:xfrm>
        </p:grpSpPr>
        <p:sp>
          <p:nvSpPr>
            <p:cNvPr id="1067" name="AutoShape 27"/>
            <p:cNvSpPr/>
            <p:nvPr/>
          </p:nvSpPr>
          <p:spPr>
            <a:xfrm>
              <a:off x="1297080" y="2471760"/>
              <a:ext cx="3328920" cy="954000"/>
            </a:xfrm>
            <a:prstGeom prst="wedgeRoundRectCallout">
              <a:avLst>
                <a:gd name="adj1" fmla="val -58421"/>
                <a:gd name="adj2" fmla="val 32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两题中都有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为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什解答的方法不同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8" name="Picture 2" descr="D:\我的文档-桌面-收藏夹\桌面\17.jpg"/>
            <p:cNvPicPr/>
            <p:nvPr/>
          </p:nvPicPr>
          <p:blipFill>
            <a:blip r:embed="rId10"/>
            <a:stretch/>
          </p:blipFill>
          <p:spPr>
            <a:xfrm>
              <a:off x="285840" y="2557440"/>
              <a:ext cx="72468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9" name="组合 13"/>
          <p:cNvGrpSpPr/>
          <p:nvPr/>
        </p:nvGrpSpPr>
        <p:grpSpPr>
          <a:xfrm>
            <a:off x="4983120" y="2471760"/>
            <a:ext cx="2765160" cy="939600"/>
            <a:chOff x="4983120" y="2471760"/>
            <a:chExt cx="2765160" cy="939600"/>
          </a:xfrm>
        </p:grpSpPr>
        <p:sp>
          <p:nvSpPr>
            <p:cNvPr id="1070" name="AutoShape 27"/>
            <p:cNvSpPr/>
            <p:nvPr/>
          </p:nvSpPr>
          <p:spPr>
            <a:xfrm>
              <a:off x="4983120" y="2471760"/>
              <a:ext cx="1643040" cy="929520"/>
            </a:xfrm>
            <a:prstGeom prst="wedgeRoundRectCallout">
              <a:avLst>
                <a:gd name="adj1" fmla="val 62222"/>
                <a:gd name="adj2" fmla="val 339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画画图就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清楚了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1" name="Picture 2" descr="E:\2017秋上·黄倩\其他\人\t01cd44f4a8bab65945.jpgt01cd44f4a8bab65945"/>
            <p:cNvPicPr/>
            <p:nvPr/>
          </p:nvPicPr>
          <p:blipFill>
            <a:blip r:embed="rId11"/>
            <a:stretch/>
          </p:blipFill>
          <p:spPr>
            <a:xfrm flipH="1">
              <a:off x="6972480" y="2486880"/>
              <a:ext cx="775800" cy="92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2" name="组合 62"/>
          <p:cNvGrpSpPr/>
          <p:nvPr/>
        </p:nvGrpSpPr>
        <p:grpSpPr>
          <a:xfrm>
            <a:off x="142920" y="3511440"/>
            <a:ext cx="4357800" cy="1785960"/>
            <a:chOff x="142920" y="3511440"/>
            <a:chExt cx="4357800" cy="1785960"/>
          </a:xfrm>
        </p:grpSpPr>
        <p:sp>
          <p:nvSpPr>
            <p:cNvPr id="1073" name="矩形 16"/>
            <p:cNvSpPr/>
            <p:nvPr/>
          </p:nvSpPr>
          <p:spPr>
            <a:xfrm>
              <a:off x="142920" y="3511440"/>
              <a:ext cx="928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圆角矩形 17"/>
            <p:cNvSpPr/>
            <p:nvPr/>
          </p:nvSpPr>
          <p:spPr>
            <a:xfrm>
              <a:off x="1000080" y="365400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圆角矩形 18"/>
            <p:cNvSpPr/>
            <p:nvPr/>
          </p:nvSpPr>
          <p:spPr>
            <a:xfrm>
              <a:off x="1714680" y="365400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圆角矩形 19"/>
            <p:cNvSpPr/>
            <p:nvPr/>
          </p:nvSpPr>
          <p:spPr>
            <a:xfrm>
              <a:off x="2428920" y="365400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圆角矩形 20"/>
            <p:cNvSpPr/>
            <p:nvPr/>
          </p:nvSpPr>
          <p:spPr>
            <a:xfrm>
              <a:off x="3143520" y="365400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圆角矩形 21"/>
            <p:cNvSpPr/>
            <p:nvPr/>
          </p:nvSpPr>
          <p:spPr>
            <a:xfrm>
              <a:off x="3857760" y="365400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圆角矩形 22"/>
            <p:cNvSpPr/>
            <p:nvPr/>
          </p:nvSpPr>
          <p:spPr>
            <a:xfrm>
              <a:off x="1000080" y="408276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圆角矩形 23"/>
            <p:cNvSpPr/>
            <p:nvPr/>
          </p:nvSpPr>
          <p:spPr>
            <a:xfrm>
              <a:off x="1714680" y="408276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圆角矩形 24"/>
            <p:cNvSpPr/>
            <p:nvPr/>
          </p:nvSpPr>
          <p:spPr>
            <a:xfrm>
              <a:off x="2428920" y="408276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圆角矩形 25"/>
            <p:cNvSpPr/>
            <p:nvPr/>
          </p:nvSpPr>
          <p:spPr>
            <a:xfrm>
              <a:off x="3143520" y="408276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圆角矩形 26"/>
            <p:cNvSpPr/>
            <p:nvPr/>
          </p:nvSpPr>
          <p:spPr>
            <a:xfrm>
              <a:off x="3857760" y="408276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圆角矩形 27"/>
            <p:cNvSpPr/>
            <p:nvPr/>
          </p:nvSpPr>
          <p:spPr>
            <a:xfrm>
              <a:off x="1000080" y="451152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圆角矩形 28"/>
            <p:cNvSpPr/>
            <p:nvPr/>
          </p:nvSpPr>
          <p:spPr>
            <a:xfrm>
              <a:off x="1714680" y="451152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圆角矩形 29"/>
            <p:cNvSpPr/>
            <p:nvPr/>
          </p:nvSpPr>
          <p:spPr>
            <a:xfrm>
              <a:off x="2428920" y="451152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圆角矩形 30"/>
            <p:cNvSpPr/>
            <p:nvPr/>
          </p:nvSpPr>
          <p:spPr>
            <a:xfrm>
              <a:off x="3143520" y="451152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圆角矩形 31"/>
            <p:cNvSpPr/>
            <p:nvPr/>
          </p:nvSpPr>
          <p:spPr>
            <a:xfrm>
              <a:off x="3857760" y="451152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圆角矩形 32"/>
            <p:cNvSpPr/>
            <p:nvPr/>
          </p:nvSpPr>
          <p:spPr>
            <a:xfrm>
              <a:off x="1000080" y="494028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圆角矩形 33"/>
            <p:cNvSpPr/>
            <p:nvPr/>
          </p:nvSpPr>
          <p:spPr>
            <a:xfrm>
              <a:off x="1714680" y="494028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圆角矩形 34"/>
            <p:cNvSpPr/>
            <p:nvPr/>
          </p:nvSpPr>
          <p:spPr>
            <a:xfrm>
              <a:off x="2428920" y="494028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圆角矩形 35"/>
            <p:cNvSpPr/>
            <p:nvPr/>
          </p:nvSpPr>
          <p:spPr>
            <a:xfrm>
              <a:off x="3143520" y="494028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圆角矩形 36"/>
            <p:cNvSpPr/>
            <p:nvPr/>
          </p:nvSpPr>
          <p:spPr>
            <a:xfrm>
              <a:off x="3857760" y="494028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组合 64"/>
          <p:cNvGrpSpPr/>
          <p:nvPr/>
        </p:nvGrpSpPr>
        <p:grpSpPr>
          <a:xfrm>
            <a:off x="1000080" y="5591160"/>
            <a:ext cx="3429000" cy="476280"/>
            <a:chOff x="1000080" y="5591160"/>
            <a:chExt cx="3429000" cy="476280"/>
          </a:xfrm>
        </p:grpSpPr>
        <p:sp>
          <p:nvSpPr>
            <p:cNvPr id="1095" name="矩形 58"/>
            <p:cNvSpPr/>
            <p:nvPr/>
          </p:nvSpPr>
          <p:spPr>
            <a:xfrm>
              <a:off x="1000080" y="5591160"/>
              <a:ext cx="3429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口答：一共有     张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矩形 59"/>
            <p:cNvSpPr/>
            <p:nvPr/>
          </p:nvSpPr>
          <p:spPr>
            <a:xfrm>
              <a:off x="3071880" y="5638680"/>
              <a:ext cx="64296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组合 68"/>
          <p:cNvGrpSpPr/>
          <p:nvPr/>
        </p:nvGrpSpPr>
        <p:grpSpPr>
          <a:xfrm>
            <a:off x="4626000" y="3605040"/>
            <a:ext cx="4286160" cy="1690920"/>
            <a:chOff x="4626000" y="3605040"/>
            <a:chExt cx="4286160" cy="1690920"/>
          </a:xfrm>
        </p:grpSpPr>
        <p:grpSp>
          <p:nvGrpSpPr>
            <p:cNvPr id="1098" name="组合 63"/>
            <p:cNvGrpSpPr/>
            <p:nvPr/>
          </p:nvGrpSpPr>
          <p:grpSpPr>
            <a:xfrm>
              <a:off x="4626000" y="3605040"/>
              <a:ext cx="4286160" cy="929160"/>
              <a:chOff x="4626000" y="3605040"/>
              <a:chExt cx="4286160" cy="929160"/>
            </a:xfrm>
          </p:grpSpPr>
          <p:sp>
            <p:nvSpPr>
              <p:cNvPr id="1099" name="矩形 37"/>
              <p:cNvSpPr/>
              <p:nvPr/>
            </p:nvSpPr>
            <p:spPr>
              <a:xfrm>
                <a:off x="4626000" y="3605040"/>
                <a:ext cx="92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）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圆角矩形 38"/>
              <p:cNvSpPr/>
              <p:nvPr/>
            </p:nvSpPr>
            <p:spPr>
              <a:xfrm>
                <a:off x="5411520" y="3747960"/>
                <a:ext cx="642960" cy="357480"/>
              </a:xfrm>
              <a:prstGeom prst="roundRect">
                <a:avLst>
                  <a:gd name="adj" fmla="val 16667"/>
                </a:avLst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圆角矩形 39"/>
              <p:cNvSpPr/>
              <p:nvPr/>
            </p:nvSpPr>
            <p:spPr>
              <a:xfrm>
                <a:off x="6126120" y="3747960"/>
                <a:ext cx="642960" cy="357480"/>
              </a:xfrm>
              <a:prstGeom prst="roundRect">
                <a:avLst>
                  <a:gd name="adj" fmla="val 16667"/>
                </a:avLst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圆角矩形 40"/>
              <p:cNvSpPr/>
              <p:nvPr/>
            </p:nvSpPr>
            <p:spPr>
              <a:xfrm>
                <a:off x="6840360" y="3747960"/>
                <a:ext cx="642960" cy="357480"/>
              </a:xfrm>
              <a:prstGeom prst="roundRect">
                <a:avLst>
                  <a:gd name="adj" fmla="val 16667"/>
                </a:avLst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圆角矩形 41"/>
              <p:cNvSpPr/>
              <p:nvPr/>
            </p:nvSpPr>
            <p:spPr>
              <a:xfrm>
                <a:off x="7554960" y="3747960"/>
                <a:ext cx="642960" cy="357480"/>
              </a:xfrm>
              <a:prstGeom prst="roundRect">
                <a:avLst>
                  <a:gd name="adj" fmla="val 16667"/>
                </a:avLst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圆角矩形 42"/>
              <p:cNvSpPr/>
              <p:nvPr/>
            </p:nvSpPr>
            <p:spPr>
              <a:xfrm>
                <a:off x="8269200" y="3747960"/>
                <a:ext cx="642960" cy="357480"/>
              </a:xfrm>
              <a:prstGeom prst="roundRect">
                <a:avLst>
                  <a:gd name="adj" fmla="val 16667"/>
                </a:avLst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圆角矩形 43"/>
              <p:cNvSpPr/>
              <p:nvPr/>
            </p:nvSpPr>
            <p:spPr>
              <a:xfrm>
                <a:off x="5411520" y="4176720"/>
                <a:ext cx="642960" cy="357480"/>
              </a:xfrm>
              <a:prstGeom prst="roundRect">
                <a:avLst>
                  <a:gd name="adj" fmla="val 16667"/>
                </a:avLst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圆角矩形 44"/>
              <p:cNvSpPr/>
              <p:nvPr/>
            </p:nvSpPr>
            <p:spPr>
              <a:xfrm>
                <a:off x="6126120" y="4176720"/>
                <a:ext cx="642960" cy="357480"/>
              </a:xfrm>
              <a:prstGeom prst="roundRect">
                <a:avLst>
                  <a:gd name="adj" fmla="val 16667"/>
                </a:avLst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圆角矩形 45"/>
              <p:cNvSpPr/>
              <p:nvPr/>
            </p:nvSpPr>
            <p:spPr>
              <a:xfrm>
                <a:off x="6840360" y="4176720"/>
                <a:ext cx="642960" cy="357480"/>
              </a:xfrm>
              <a:prstGeom prst="roundRect">
                <a:avLst>
                  <a:gd name="adj" fmla="val 16667"/>
                </a:avLst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圆角矩形 46"/>
              <p:cNvSpPr/>
              <p:nvPr/>
            </p:nvSpPr>
            <p:spPr>
              <a:xfrm>
                <a:off x="7554960" y="4176720"/>
                <a:ext cx="642960" cy="357480"/>
              </a:xfrm>
              <a:prstGeom prst="roundRect">
                <a:avLst>
                  <a:gd name="adj" fmla="val 16667"/>
                </a:avLst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组合 65"/>
            <p:cNvGrpSpPr/>
            <p:nvPr/>
          </p:nvGrpSpPr>
          <p:grpSpPr>
            <a:xfrm>
              <a:off x="5340240" y="4820040"/>
              <a:ext cx="3429000" cy="475920"/>
              <a:chOff x="5340240" y="4820040"/>
              <a:chExt cx="3429000" cy="475920"/>
            </a:xfrm>
          </p:grpSpPr>
          <p:sp>
            <p:nvSpPr>
              <p:cNvPr id="1110" name="矩形 60"/>
              <p:cNvSpPr/>
              <p:nvPr/>
            </p:nvSpPr>
            <p:spPr>
              <a:xfrm>
                <a:off x="5340240" y="4820040"/>
                <a:ext cx="34290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口答：一共有     张。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矩形 61"/>
              <p:cNvSpPr/>
              <p:nvPr/>
            </p:nvSpPr>
            <p:spPr>
              <a:xfrm>
                <a:off x="7412040" y="4867560"/>
                <a:ext cx="642960" cy="42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2" name="矩形 66"/>
          <p:cNvSpPr/>
          <p:nvPr/>
        </p:nvSpPr>
        <p:spPr>
          <a:xfrm>
            <a:off x="3178080" y="5638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67"/>
          <p:cNvSpPr/>
          <p:nvPr/>
        </p:nvSpPr>
        <p:spPr>
          <a:xfrm>
            <a:off x="7518240" y="486900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1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1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5" name="Rectangle 64"/>
          <p:cNvSpPr/>
          <p:nvPr/>
        </p:nvSpPr>
        <p:spPr>
          <a:xfrm>
            <a:off x="260280" y="10944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32"/>
          <p:cNvSpPr/>
          <p:nvPr/>
        </p:nvSpPr>
        <p:spPr>
          <a:xfrm>
            <a:off x="420840" y="933480"/>
            <a:ext cx="84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求几个几是多少，用乘法解决；求两部分的和，用加法解决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 txBox="1"/>
          <p:nvPr/>
        </p:nvSpPr>
        <p:spPr>
          <a:xfrm>
            <a:off x="422280" y="97128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小红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块糖，小丽和小红同样多，小明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块糖，他们一共有多少块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6×2+5=17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（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答：他们一共有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7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块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组合 2"/>
          <p:cNvGrpSpPr/>
          <p:nvPr/>
        </p:nvGrpSpPr>
        <p:grpSpPr>
          <a:xfrm>
            <a:off x="-41400" y="87480"/>
            <a:ext cx="3108600" cy="527040"/>
            <a:chOff x="-41400" y="87480"/>
            <a:chExt cx="3108600" cy="527040"/>
          </a:xfrm>
        </p:grpSpPr>
        <p:pic>
          <p:nvPicPr>
            <p:cNvPr id="1129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01520" y="87480"/>
              <a:ext cx="296568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0" name="组合 4"/>
            <p:cNvGrpSpPr/>
            <p:nvPr/>
          </p:nvGrpSpPr>
          <p:grpSpPr>
            <a:xfrm>
              <a:off x="-41400" y="182520"/>
              <a:ext cx="411480" cy="274680"/>
              <a:chOff x="-41400" y="182520"/>
              <a:chExt cx="411480" cy="274680"/>
            </a:xfrm>
          </p:grpSpPr>
          <p:sp>
            <p:nvSpPr>
              <p:cNvPr id="1131" name="椭圆 8"/>
              <p:cNvSpPr/>
              <p:nvPr/>
            </p:nvSpPr>
            <p:spPr>
              <a:xfrm rot="16200000">
                <a:off x="198000" y="348480"/>
                <a:ext cx="98640" cy="11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2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1280" y="315000"/>
                <a:ext cx="208800" cy="1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3" name="椭圆 9"/>
              <p:cNvSpPr/>
              <p:nvPr/>
            </p:nvSpPr>
            <p:spPr>
              <a:xfrm rot="16200000">
                <a:off x="198000" y="222480"/>
                <a:ext cx="98640" cy="11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椭圆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1280" y="197640"/>
                <a:ext cx="2088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圆角矩形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41400" y="331920"/>
                <a:ext cx="338760" cy="10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41400" y="302760"/>
                <a:ext cx="338760" cy="10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41400" y="211680"/>
                <a:ext cx="338760" cy="10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41400" y="182520"/>
                <a:ext cx="338760" cy="104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9" name="矩形 19"/>
          <p:cNvSpPr/>
          <p:nvPr/>
        </p:nvSpPr>
        <p:spPr>
          <a:xfrm>
            <a:off x="1127160" y="2595600"/>
            <a:ext cx="4705200" cy="13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341280" y="930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同学们种树，种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，每排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棵，一共种了多少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×6=30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（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答：一共种了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0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组合 2"/>
          <p:cNvGrpSpPr/>
          <p:nvPr/>
        </p:nvGrpSpPr>
        <p:grpSpPr>
          <a:xfrm>
            <a:off x="-50760" y="87480"/>
            <a:ext cx="2930400" cy="527040"/>
            <a:chOff x="-50760" y="87480"/>
            <a:chExt cx="2930400" cy="527040"/>
          </a:xfrm>
        </p:grpSpPr>
        <p:pic>
          <p:nvPicPr>
            <p:cNvPr id="1142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82440" y="87480"/>
              <a:ext cx="2797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3" name="组合 4"/>
            <p:cNvGrpSpPr/>
            <p:nvPr/>
          </p:nvGrpSpPr>
          <p:grpSpPr>
            <a:xfrm>
              <a:off x="-50760" y="182520"/>
              <a:ext cx="387360" cy="274320"/>
              <a:chOff x="-50760" y="182520"/>
              <a:chExt cx="387360" cy="274320"/>
            </a:xfrm>
          </p:grpSpPr>
          <p:sp>
            <p:nvSpPr>
              <p:cNvPr id="1144" name="椭圆 8"/>
              <p:cNvSpPr/>
              <p:nvPr/>
            </p:nvSpPr>
            <p:spPr>
              <a:xfrm rot="16200000">
                <a:off x="183600" y="349920"/>
                <a:ext cx="97560" cy="116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5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31760" y="321840"/>
                <a:ext cx="204840" cy="12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椭圆 9"/>
              <p:cNvSpPr/>
              <p:nvPr/>
            </p:nvSpPr>
            <p:spPr>
              <a:xfrm rot="16200000">
                <a:off x="183600" y="225000"/>
                <a:ext cx="97560" cy="116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椭圆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131760" y="198360"/>
                <a:ext cx="204840" cy="12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8" name="圆角矩形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39480"/>
                <a:ext cx="315720" cy="1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9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08520"/>
                <a:ext cx="315720" cy="1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0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3120"/>
                <a:ext cx="315720" cy="1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1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15720" cy="109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2" name="矩形 3"/>
          <p:cNvSpPr/>
          <p:nvPr/>
        </p:nvSpPr>
        <p:spPr>
          <a:xfrm>
            <a:off x="1892160" y="2638440"/>
            <a:ext cx="4950000" cy="12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 txBox="1"/>
          <p:nvPr/>
        </p:nvSpPr>
        <p:spPr>
          <a:xfrm>
            <a:off x="406440" y="86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同学们种树，种了两排，一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棵，一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棵，一共种了多少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+6=11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（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答：一共种了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1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组合 2"/>
          <p:cNvGrpSpPr/>
          <p:nvPr/>
        </p:nvGrpSpPr>
        <p:grpSpPr>
          <a:xfrm>
            <a:off x="-50760" y="87480"/>
            <a:ext cx="3048120" cy="527040"/>
            <a:chOff x="-50760" y="87480"/>
            <a:chExt cx="3048120" cy="527040"/>
          </a:xfrm>
        </p:grpSpPr>
        <p:pic>
          <p:nvPicPr>
            <p:cNvPr id="1155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88920" y="87480"/>
              <a:ext cx="29084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6" name="组合 4"/>
            <p:cNvGrpSpPr/>
            <p:nvPr/>
          </p:nvGrpSpPr>
          <p:grpSpPr>
            <a:xfrm>
              <a:off x="-50760" y="182520"/>
              <a:ext cx="403200" cy="274320"/>
              <a:chOff x="-50760" y="182520"/>
              <a:chExt cx="403200" cy="274320"/>
            </a:xfrm>
          </p:grpSpPr>
          <p:sp>
            <p:nvSpPr>
              <p:cNvPr id="1157" name="椭圆 8"/>
              <p:cNvSpPr/>
              <p:nvPr/>
            </p:nvSpPr>
            <p:spPr>
              <a:xfrm rot="16200000">
                <a:off x="186840" y="348840"/>
                <a:ext cx="98280" cy="117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8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45080" y="317160"/>
                <a:ext cx="207360" cy="12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9" name="椭圆 9"/>
              <p:cNvSpPr/>
              <p:nvPr/>
            </p:nvSpPr>
            <p:spPr>
              <a:xfrm rot="16200000">
                <a:off x="186840" y="223200"/>
                <a:ext cx="98280" cy="117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椭圆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145080" y="198000"/>
                <a:ext cx="207360" cy="12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1" name="圆角矩形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34440"/>
                <a:ext cx="330840" cy="10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2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04560"/>
                <a:ext cx="330840" cy="10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3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2400"/>
                <a:ext cx="330840" cy="10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4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30840" cy="105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5" name="矩形 3"/>
          <p:cNvSpPr/>
          <p:nvPr/>
        </p:nvSpPr>
        <p:spPr>
          <a:xfrm>
            <a:off x="2308320" y="2478240"/>
            <a:ext cx="3981240" cy="15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6T01:35:00Z</dcterms:created>
  <dc:creator/>
  <dc:description/>
  <dc:language>en-US</dc:language>
  <cp:lastModifiedBy>万润仪器贸易公司</cp:lastModifiedBy>
  <dcterms:modified xsi:type="dcterms:W3CDTF">2020-08-21T00:34:50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